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9.gif" ContentType="image/gif"/>
  <Override PartName="/ppt/media/image12.png" ContentType="image/png"/>
  <Override PartName="/ppt/media/image18.png" ContentType="image/png"/>
  <Override PartName="/ppt/media/image17.gif" ContentType="image/gif"/>
  <Override PartName="/ppt/media/image16.gif" ContentType="image/gif"/>
  <Override PartName="/ppt/media/image14.jpeg" ContentType="image/jpeg"/>
  <Override PartName="/ppt/media/image2.gif" ContentType="image/gif"/>
  <Override PartName="/ppt/media/image5.jpeg" ContentType="image/jpeg"/>
  <Override PartName="/ppt/media/image11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914D-FF25-4813-ACCE-1042ABE9C4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Forte"/>
              </a:rPr>
              <a:t>Prepar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rainsto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we are going to speak about Christmas. You know Christmas is one of the famous and outstanding holidays all over the world. What is Christmas associated wi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C2B-BF8E-43B3-9946-D484BA80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BE2E-12F4-4AD3-87E2-60B29102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A4F-8C15-40E0-905F-3B685E86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4384-B2C5-40FD-9070-0DAAEC01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4604-2943-4476-A47E-3D37E189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7B31-3FEA-4B30-ABD5-931FE1E9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3462-0F32-4AB9-BECA-390B7E02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4131-44EF-4BF3-A4DE-09F8625C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B08F-9187-4F14-98BD-A0548B6E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B2FE-5620-42FD-B9F1-8C168C16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778B-3671-49DC-B8F7-CE869BE2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27A-9F9B-410C-8BE4-3299E053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3F1E-443F-4774-9585-4D376618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E89C-BC1D-48DF-B570-57DEDA98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214E-E250-48E3-8EE0-05C25404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C05F-FCB1-4AD3-8418-C80A1071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D4EC-C4DC-40D6-A2A9-436A4D35A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45B-7C83-4A1B-A9B4-35107C78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421-1766-4A23-8C75-D73B8D49D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842-0D77-42BE-8689-62860945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81C-C832-44A2-81B6-9429D434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9500-1E89-4982-AF7F-B29905C1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233-5DBB-43E1-B973-5CD2BBB6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239-0E91-4717-B961-C9398FFE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0440-0674-4627-B827-CDAF12E578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188C-23EA-4567-B6A9-04286542C6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suite101.com/475405_com_bigben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9.xml"/><Relationship Id="rId14" Type="http://schemas.openxmlformats.org/officeDocument/2006/relationships/slide" Target="slide7.xml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15440" y="566640"/>
            <a:ext cx="5029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закова Наталья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английского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Абанская СОШ№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637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.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бански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сноярский кр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л.Степанова 6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b2b2b2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ords is Holiday associated w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299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lo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877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43280" y="5877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220500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2708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mas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5157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15120" y="2482920"/>
            <a:ext cx="2360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240" y="227664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mp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67120" y="164772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932360" y="15573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68360" y="1773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ta Cl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98160" y="63086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386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835280" y="1876680"/>
            <a:ext cx="5473440" cy="4289040"/>
            <a:chOff x="1835280" y="1876680"/>
            <a:chExt cx="5473440" cy="4289040"/>
          </a:xfrm>
        </p:grpSpPr>
        <p:sp>
          <p:nvSpPr>
            <p:cNvPr id="120" name=""/>
            <p:cNvSpPr/>
            <p:nvPr/>
          </p:nvSpPr>
          <p:spPr>
            <a:xfrm>
              <a:off x="2843280" y="3284640"/>
              <a:ext cx="3744720" cy="18000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651640" y="2637000"/>
              <a:ext cx="36036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3492000" y="2565000"/>
              <a:ext cx="35892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516720" y="3357720"/>
              <a:ext cx="79200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123640" y="4581360"/>
              <a:ext cx="86220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268000" y="3212640"/>
              <a:ext cx="7210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43640" y="458136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08720" y="5013360"/>
              <a:ext cx="50328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563640" y="5013360"/>
              <a:ext cx="36036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780080" y="1876680"/>
              <a:ext cx="448200" cy="13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572000" y="5084640"/>
              <a:ext cx="21600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1835280" y="4076280"/>
              <a:ext cx="1008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67280" y="4005360"/>
              <a:ext cx="18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lid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409840" cy="1808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551320" cy="2513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7480" y="5084640"/>
            <a:ext cx="529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This word starts with  “P.“ This is a symbol of the holiday. It looks like a face. People put it on the window – s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5937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ord starts with "W." It is the season of the year in which Christmas is celebrate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at is it call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43280" y="404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732720" y="3500280"/>
            <a:ext cx="2112840" cy="3168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35200" y="465300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This word starts with  “S.“ This man brings presents for good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89000"/>
            <a:ext cx="72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This word starts with  "H." This plant is a symbol of the season. It has red berries and sharp – pointed leaves. What is it called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195640" y="1573200"/>
            <a:ext cx="3141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260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his word starts with "R." These animals pull Santa's sleigh. What are they cal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588000" y="333360"/>
            <a:ext cx="2264040" cy="1579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12720" y="321300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This word starts with  “B.“ It is the largest clock of London. When it begins to strike twelve, the people join hands and sing “Auld Lang Syn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Big Ben, Richard Oldal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43640" y="3284640"/>
            <a:ext cx="16495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08040" y="401040"/>
            <a:ext cx="61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festivals do you associate with these word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162864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" action="ppaction://hlinksldjump"/>
              </a:rPr>
              <a:t>stock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2" action="ppaction://hlinksldjump"/>
              </a:rPr>
              <a:t>pump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3" action="ppaction://hlinksldjump"/>
              </a:rPr>
              <a:t>pu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4" action="ppaction://hlinksldjump"/>
              </a:rPr>
              <a:t>Robert Bur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5" action="ppaction://hlinksldjump"/>
              </a:rPr>
              <a:t>a piece of c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6" action="ppaction://hlinksldjump"/>
              </a:rPr>
              <a:t>a brunch of mistlet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7" action="ppaction://hlinksldjump"/>
              </a:rPr>
              <a:t>a carr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8" action="ppaction://hlinksldjump"/>
              </a:rPr>
              <a:t>Trick or t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9" action="ppaction://hlinksldjump"/>
              </a:rPr>
              <a:t>ca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0" action="ppaction://hlinksldjump"/>
              </a:rPr>
              <a:t>to burn juni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1" action="ppaction://hlinksldjump"/>
              </a:rPr>
              <a:t>“Auld Lang 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2" action="ppaction://hlinksldjump"/>
              </a:rPr>
              <a:t>Syne</a:t>
            </a: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3" action="ppaction://hlinksldjump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"/>
                <a:hlinkClick r:id="rId14" action="ppaction://hlinksldjump"/>
              </a:rPr>
              <a:t>G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d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7a147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484360" y="32130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allow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58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 flipH="1">
            <a:off x="6516360" y="3716280"/>
            <a:ext cx="2360520" cy="293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300720" y="765000"/>
            <a:ext cx="3084480" cy="16243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395280" y="4581360"/>
            <a:ext cx="1982880" cy="1982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79280" y="254160"/>
            <a:ext cx="266724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484360" y="24210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Christ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2147760" cy="3195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872320" y="4221000"/>
            <a:ext cx="3271680" cy="2454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Рождественские фотографии — Рованиеми, Финляндия."/>
          <p:cNvPicPr/>
          <p:nvPr/>
        </p:nvPicPr>
        <p:blipFill>
          <a:blip r:embed="rId3"/>
          <a:stretch/>
        </p:blipFill>
        <p:spPr>
          <a:xfrm>
            <a:off x="0" y="4221000"/>
            <a:ext cx="3600360" cy="243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-36360" y="-27000"/>
            <a:ext cx="914400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ff"/>
            </a:gs>
            <a:gs pos="100000">
              <a:srgbClr val="cc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484360" y="2924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New Ye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4130640"/>
            <a:ext cx="2273400" cy="2727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588000" y="4203720"/>
            <a:ext cx="2211480" cy="2654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005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13:11:32Z</dcterms:created>
  <dc:creator>я</dc:creator>
  <dc:description/>
  <dc:language>en-US</dc:language>
  <cp:lastModifiedBy>я</cp:lastModifiedBy>
  <dcterms:modified xsi:type="dcterms:W3CDTF">2009-02-07T13:21:18Z</dcterms:modified>
  <cp:revision>16</cp:revision>
  <dc:subject/>
  <dc:title>Слайд 1</dc:title>
</cp:coreProperties>
</file>